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047-5254-4C98-92ED-4813B399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611-0D48-4DB6-97CA-8BE85DE0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53E-2842-476E-9AA3-3D59C0B1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8DE-1824-4B7B-A770-88BE9F6D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5FE8-DB6D-4188-BFB9-A028EC39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D5F9-CE90-4C37-9AAF-7CB0AA6B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07F4-762E-40C0-827C-0529F2DA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9E4D-4E12-4DCF-AB0A-5C36B599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E577-74BA-4172-B21C-500B2942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9837-F0A2-4215-AD1B-682940B0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73E4-37D0-4361-ADCB-3EA24C7B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089-26B2-4B48-BB30-3242735E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6F4D-F7BC-46A8-BD17-55E0C332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215C-A951-410D-83CC-11304935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2D76-0390-4985-8607-7697E4EF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71EC-4EBD-46BE-ACC1-56C5323D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6DDC-443E-45F7-9110-817D3189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4BE-8090-4CE7-82F5-DC4E6B76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2FE-136F-4FD4-9971-8DD2A9B4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2D6-34D9-4733-96C1-D7435CF2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44A-4ED8-4CED-92A8-1F542F44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7FE-C4CE-46FB-AF36-2218990F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D9B-8721-4558-9790-DDAE522F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059-191C-4816-AAD1-8C4F322E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0708-087F-423B-81E1-5848B79B424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85A8-E467-44FD-9B43-9778D838F162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63C7-3825-4404-8370-22836EE4703E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 TRABAJO</a:t>
            </a:r>
            <a:br>
              <a:rPr sz="5400"/>
            </a:br>
            <a:br>
              <a:rPr sz="5400"/>
            </a:b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 EN GRUPO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298D-F8C0-49B5-A10F-74321BDB350C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Comic Sans MS"/>
              </a:rPr>
              <a:t>Roles de los participan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LIDER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Fuerte personalidad, buena capacidad de expresión, convicción. Influye sobre el grupo y se implica en los conflictos que surge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COORDINADOR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Orienta y guía al equipo, lo reconduce a los objetivos, a las normas. Facilita las relaciones interpersonales y afectiv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PORTAVOZ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Recoge y expone con fidelidad los puntos de vista y las opiniones que se expresan. Registra el progreso del trabajo del grupo. Es la memoria grupa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OBSERVADO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Observa con objetividad los aspectos de la reunión. Supervisa la evolución del ambiente y el clima dentro del gru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JEFE FORMAL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Tiene el poder oficial en el grupo. Influye sobre los demás por su “status” de poder forma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ANIMADOR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Amistoso, comprende y estimula a los miembros del grupo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C7A7-E214-4214-A3EA-CB9D67BC49C6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Comic Sans MS"/>
              </a:rPr>
              <a:t>Roles de los participan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DOMINADOR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Ataca al equipo, influye a través del miedo, la manipulación, el chantaj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MANIPULADOR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Orienta al equipo hacia sus propios objetivos personales, enmascarándolos en las tareas que desarrolla el gru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GRACIOSO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Interrumpe continuamente el trabajo del grupo con bromas o imitaciones, desviándolo de sus objetivo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SUMISO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Se somete al grupo por temor o vergüenza. Todos los miembros lo atacan sistemáticamente. Busca la simpatía para esconder su debilidad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RESISTENTE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Se opone de forma sistemática por temor a perder su “status”. Desanima o bloquea cualquier iniciativa del gru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RETRAIDO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Se comporta de forma indiferente y pasiva. Cuando participa se desvía del tema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PLANIFICACIÓN DE ACTIVIDADES EN GRUPO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28800"/>
            <a:ext cx="822960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0.- DESCRIPCION DE LA ACTIVIDAD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QUÉ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I.- JUSTIFICACIÓN 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POR QUÉ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II.- OBJETIVOS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PARA QUÉ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III.- DESTINATARIOS 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PARA QUIÉN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IV.- ACTIVIDADES 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CÓM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V.- TEMPORALIZACIÓN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CUÁNDO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VI.- RECURSOS HUMANOS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QUIÉN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VII.- RECURSOS MATERIALES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CON QU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VIII.- EVALUACIÓN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QUÉ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CÓMO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CUÁND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4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378F-D570-4F3B-A6E5-15D480299840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7CC5-B493-49A6-8180-09BA78E931D8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Comic Sans MS"/>
              </a:rPr>
              <a:t>ÍND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Conceptos: Grupo y Trabajo en Grup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Ventajas e Inconvenientes del Trabajo en Grup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Funciones del grup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Fases de constitución de un Grup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Pautas para trabajar en Grup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Roles de los participan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Técnicas de Trabajo en Grup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6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95B9-2F82-4525-8891-6EF739A3FC05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Comic Sans MS"/>
              </a:rPr>
              <a:t>El grupo: Concepto y Característ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omic Sans MS"/>
              </a:rPr>
              <a:t>Concept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Se entiende por grupo a un número intermedio de personas (dos o más), que se reúnen con una finalidad común y que se regulan mediante una serie de negociaciones, implícitas o explicitas, donde el conflicto es algo normal y natural .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Número limitado de person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Finalidad común (objetivo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Regulación por Negociación (norma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Conflictos / Resolució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6E60-AE63-4FE3-86C1-041899C3C3F9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Comic Sans MS"/>
              </a:rPr>
              <a:t>Concepto de trabajo en grup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omic Sans MS"/>
              </a:rPr>
              <a:t>Participar como miembro de un equipo: Aportar ideas, sugerencias y esfuerzos al proyecto del grupo. Hacer propios los objetivos del grupo y compartir las tareas necesarias para alcanzarl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6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D610-D974-4B90-B625-B4B409297D59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Comic Sans MS"/>
              </a:rPr>
              <a:t>VENTAJAS E INCONVENIEN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39560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VENTAJ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El grupo actúa como fuente de motiva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Ofrece una visión más heterogénea y amplia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Se consiguen nuevas soluciones e ideas creativ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Los miembros como han participado en el proceso de creación y/o resolución, aceptan y apoyan las soluc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Los individuos se sienten más implicados en los objetivos cuando han participado en su establecimien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907560"/>
            <a:ext cx="4043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INCONVENIEN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El trabajo en grupo requiere más tiem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Fuerte tendencia a la conformidad por el temor a ser marginados en el grupo por expresar ideas opuest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Pueden desarrollarse normas contrarias a los objetivos del gru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Puede reducir el esfuerzo individual “Holgazanería Social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6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0AAE-D28B-44C1-B889-52D720693628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FUNCIONES DEL GRUP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PROFESIONA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Dirigir, organizar, controlar y distribuir mejor el trabaj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Solucionar problemas y tomar decision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Recoger información, ideas y sugerencia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Participación y compromiso de los sujetos con las objetivos, actividades, planes y decisiones tomada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Negociar y resolver conflictos que surgen en la Organiz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Promover el cambio y el desarrollo de la Organiz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Comic Sans MS"/>
              </a:rPr>
              <a:t>PERSONAL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Satisfacen necesidades de afili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Contribuyen a establecer el autoconcepto y a mantener la autoestima de la propia persona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Ayudan a conseguir los objetivos personal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Reducen el sentimiento de inseguridad y proporcionan apoyo social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Facilitan el entrenamiento, reduciendo el aburrimiento y la fatiga, y aumentando la satisfacción personal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1A9C-8F3F-4B81-9E8F-6E2AF26A53E3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FASES DE CONSTITUCIÓN DE UN GRUP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Comic Sans MS"/>
              </a:rPr>
              <a:t>INICI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La incertidumbre y la ansiedad se apoderan de los miembros del grupo, que aún no han establecido ni unos parámetros de relación, ni una especificación de tareas y funcion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Comic Sans MS"/>
              </a:rPr>
              <a:t>CLARIFIC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Se buscan procedimientos para adquirir seguridad, se establecen los primeros roles y normas; y generalmente existe un clima de dependencia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Comic Sans MS"/>
              </a:rPr>
              <a:t>CONTRADEPENCIA Y/O LUCHA ENTRE HEMANO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Surgen subgrupos y los primeros conflictos que tiene que superar el grupo; supone el enfrentamiento entre los subgrupos, desarrollándose un sentimiento de pertenencia por oposi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Comic Sans MS"/>
              </a:rPr>
              <a:t>ENCANTAMIENTO / INTEGR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En ésta fase la nota predominante es el buen clima, expresión de madurez del grupo. Empiezan a aparecer resultados satisfactorios, se incrementan los sentimientos de cohesión que permiten aumentar la productividad del grup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Comic Sans MS"/>
              </a:rPr>
              <a:t>TERMINACIÓN / FINALIZ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Cuando se consiguen los objetivos propuestos el grupo de diluye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7046-3B0D-4F23-87E6-0E17EB44444F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Comic Sans MS"/>
              </a:rPr>
              <a:t>ALGUNAS PAUTAS PARA TRABAJAR EN GRUPO (I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Todos</a:t>
            </a: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 los participantes han de conocer con claridad el </a:t>
            </a: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Objetivo</a:t>
            </a:r>
            <a:r>
              <a:rPr b="0" lang="es-ES" sz="2000" spc="-1" strike="noStrike" u="sng">
                <a:solidFill>
                  <a:srgbClr val="eec85e"/>
                </a:solidFill>
                <a:uFillTx/>
                <a:latin typeface="Comic Sans MS"/>
                <a:hlinkClick r:id="rId1" action="ppaction://hlinksldjump"/>
              </a:rPr>
              <a:t>[1]</a:t>
            </a: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 final</a:t>
            </a: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 del grupo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Se han de establecer unas </a:t>
            </a: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normas</a:t>
            </a: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 de funcionamiento, que todos los miembros del grupo deben conocer , aceptar y respet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Se deben establecer un </a:t>
            </a: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método de trabajo</a:t>
            </a: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 que permita alcanzar los objetivo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Se deben conocer todas las </a:t>
            </a: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tareas o pasos</a:t>
            </a: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 a seguir para conseguir los Objetivos propuesto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[1]</a:t>
            </a: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 Los objetivos planteados en un grupo deben ser realistas, alcanzables y medib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E53B-0B16-4B14-B368-215E2FA6B2CE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Comic Sans MS"/>
              </a:rPr>
              <a:t>ALGUNAS PAUTAS PARA TRABAJAR EN GRUPO (II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Se hace el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reparto de tareas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(delegación)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 entre los componentes del grupo, de forma que la ejecución de todas las tareas lleven a conseguir el objetivo final del gru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Se elegirá un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secretario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 (encargado de anotar todas las ideas propuestas por los miembros del grupo) 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un portavoz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 (encargado de exponer el trabajo del grupo). y un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Coordinador o Moderador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que cumpla y haga cumplir las normas, que mediará e intentará resolver los conflictos  y que guiará  y motivará al grupo para conseguir los el objetivo final del gru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Todos los miembros del grupo de deben apartar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ideas y todos deben trabajar por igual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para alcanzar los objetivo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Debe existir un buen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sistema de comunicación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, que permita conocer en todo momento las opiniones de los participantes.Los miembros del grupo deben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escuchar con atención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a todos los participantes cuando intervienen.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Respetando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 en todo momento los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turnos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 de palabr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7:45:25Z</dcterms:created>
  <dc:creator>Biblioteca</dc:creator>
  <dc:description/>
  <dc:language>en-US</dc:language>
  <cp:lastModifiedBy>IES PARQUE ALUCHE</cp:lastModifiedBy>
  <dcterms:modified xsi:type="dcterms:W3CDTF">2011-04-28T15:34:35Z</dcterms:modified>
  <cp:revision>11</cp:revision>
  <dc:subject/>
  <dc:title>EL TRABAJO EN GRUPO</dc:title>
</cp:coreProperties>
</file>